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8D11-2D4E-4EB1-93D1-63D05731F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was selected from 50 states and 5 territories.  All jurisdictions that allow any email also allow use of fax for some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they face, how they process them, all are concerned about voter priv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ctive education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B71-91AC-423E-A977-4B37B570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FF3-172F-4F3E-A577-ED65DDAB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422-8E92-46C7-AF6D-4BCB86A6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118-CB4B-4FE4-BC7F-27026157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D007-C91F-496D-85BF-BD00FCA8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FCC4-4073-4B8C-90AF-451EF95B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8B97-D507-40F3-93B9-321BDB8C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6D0F-0551-461B-A4E9-75FCAE7C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FEB9-3E41-472B-A4AE-59C5A4A1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B3FE-5AD0-48C4-ABFD-DA0B8A18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1731-7AFC-47CB-9806-186D49F2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1F9-C319-4E04-9B36-6DA57A96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3051-2B11-43A0-B297-C935C712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4BE6-ABFE-40D9-8F0A-232FEBCF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44E3-F6E1-4059-8BC7-6B626FF4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0025-37D3-47B0-9590-28E516B4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EEC5-E9BC-48DD-B8EC-598D0478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0B3-A0DA-47E5-9C0D-49EA64D0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03F-C974-41A9-9C39-571C8ED2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A1E-AC36-4832-8B70-1A58F98E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110-3644-4850-BD04-56F1FA06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025-50B0-40BE-ADB8-5DBBC654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B9B-CDEE-4797-923F-85406311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0C6-748F-4823-858B-AE001210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4DC9-4123-4D7E-BF34-F6269421D2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A22D-475E-4055-8B55-F923281B89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14300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UOCAVA Voting in Four States</a:t>
            </a: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A Study of Election Administration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4038480"/>
            <a:ext cx="7620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Overview of the Project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omponents: Qualitative and Quanti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 Studies of 4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ey of UOCAVA vo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erence with Election Administrators,  technology and election expert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XXXXXXXXXXXX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Sample Selection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d States by Transmiss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emailing of voted bal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emailing of blank ballots or IVAS tool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emailing of FPCA but not bal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x but no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x of voted ballo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x of blank ballot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x of FPCA for registration and ballot reque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x of FPCA for ballot reque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al delivery on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More Sample Selection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tates selected from each of the top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criteria conside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ze of UOCAVA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ety of methods utilized by sample state for within-state comparison of different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tion of and participation in pilot projects or FVAP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Research States and Jurisdictions</a:t>
            </a:r>
            <a:br>
              <a:rPr sz="3000"/>
            </a:b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Key Features</a:t>
            </a:r>
            <a:endParaRPr b="0" lang="en-US" sz="2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6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th Carolina: email and fax voted ballots – state-wide; south-eastern state; VOI ‘00, IVAS ‘04; SERVE ’04; large UOCAVA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tana: email and fax of voted ballots – some jurisdictions; north-western state; IVAS ‘04; IVAS ‘06 T2; small UOCAVA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rida: email blank and fax voted ballots; southern state; VOI ‘00, SERVE ’04; pilot projects, large UOCAVA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llinois: fax of FPCA for ballot request; IVAS ’06 T1 + email blank ballots in 2 jurisdictions; mid-western state; medium UOCAVA po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Findings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husiasm about facilitating UOCAVA 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ly about military serving overs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resources and technical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eme variation on technology within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knowledge about resourc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ycle registration requirement: bad for administrators – good or bad for vo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Findings Continued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 about authentication of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ying perspectives on best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variation in general administration of UOCAVA voting found based on selection criteria for states – differences wash out as population siz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found based on relationship of state to local juris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innovative ideas on lo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mission to conduct pilot projects des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More Findings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echanisms to share or promote innovative procedures among lo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communication between LEOs and VAOs in many juris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PS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ers uninformed about electronic transmission possibilities (few reque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Os cautious about encouraging wide-spread use due to ballot remaking issu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Conclusion and Recommendations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Os hindered by obstacles (legal, resources, technology infrastructure, awareness of voters, knowledge of agenc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nee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ll increase in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ws that allow more discre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chanism to share pract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techn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 and authentication assuran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grade/standardize local syste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03:30:06Z</dcterms:created>
  <dc:creator>Anita</dc:creator>
  <dc:description/>
  <dc:language>en-US</dc:language>
  <cp:lastModifiedBy>Statewide Database</cp:lastModifiedBy>
  <dcterms:modified xsi:type="dcterms:W3CDTF">2007-09-23T22:24:14Z</dcterms:modified>
  <cp:revision>16</cp:revision>
  <dc:subject/>
  <dc:title>Facilitating UOCAVA Voting</dc:title>
</cp:coreProperties>
</file>