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5CCC-B40C-4B83-AD76-AED832299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was selected from 50 states and 5 territories.  All jurisdictions that allow any email also allow use of fax for some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they face, how they process them, all are concerned about voter priv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ctive education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854-A22C-42DD-B64F-D2196873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6C8-AF1B-4430-9D05-B0D77102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428-5684-4A99-A673-EE405EE3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A9D-630F-442D-98FC-2BB67B6D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D409-650B-4CAE-8FA5-8360BB2B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92D2-529B-4DDB-9819-E2AEF64A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832F-5C56-442E-98F2-1703CA37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4C41-9DBC-4C1E-BB2A-8E0E27F8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1975-D6AD-4E33-9661-A455CA9F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7B30-9028-41B6-AEBD-253E0062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32B0-C8EC-4827-A369-29537562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473-A2A1-4EBB-80E2-8E494D8C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9508-13A5-4954-91ED-C78680DE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7D0E-3EC2-44F0-988D-FBE96126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043C-7BD4-4FEE-91EF-721D2324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060F-4283-4C86-91CF-3E44D8E7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6287-4484-4BF8-8A73-21EE6602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837-1F2E-4957-A132-E9EB4DF8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B42-CCD3-4D18-ABAC-619A8CB3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7ED-0349-4A32-BABD-2F28E1A7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84B-6B8F-4B27-8233-0D3B4987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217-62AE-4E29-B4DF-9605D82F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BCF-FD38-4C45-BC09-0EE9D57C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D90-9D63-4F63-9DA5-C5BAEAB7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5749-DBF8-422E-96B0-A20212F556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3450-FC5A-482C-BD11-BB6CB5319C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14300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UOCAVA Voting in Four States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A Study of Election Administrat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4038480"/>
            <a:ext cx="7620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Overview of the Projec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omponents: Qualitative and Quant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Studies of 4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y of UOCAVA vo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erence with Election Administrators,  technology and election expert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Sample Selection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States by Transmiss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mailing of voted bal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mailing of blank ballots or IVAS tool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mailing of FPCA but not bal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x but no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x of voted ballo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x of blank ballot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x of FPCA for registration and ballot reque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x of FPCA for ballot reque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al delivery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More Sample Selection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tates selected from each of the top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criteria conside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 of UOCAVA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ety of methods utilized by sample state for within-state comparison of differen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tion of and participation in pilot projects or FVAP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Research States and Jurisdictions</a:t>
            </a:r>
            <a:br>
              <a:rPr sz="3000"/>
            </a:b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Key Features</a:t>
            </a:r>
            <a:endParaRPr b="0" lang="en-US" sz="2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6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th Carolina: email and fax voted ballots – state-wide; south-eastern state; VOI ‘00, IVAS ‘04; SERVE ’04; large UOCAVA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tana: email and fax of voted ballots – some jurisdictions; north-western state; IVAS ‘04; IVAS ‘06 T2; small UOCAVA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rida: email blank and fax voted ballots; southern state; VOI ‘00, SERVE ’04; pilot projects, large UOCAVA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llinois: fax of FPCA for ballot request; IVAS ’06 T1 + email blank ballots in 2 jurisdictions; mid-western state; medium UOCAVA po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Findings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husiasm about facilitating UOCAVA 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ly about military serving overs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resources and technical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eme variation on technology within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knowledge about resourc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ycle registration requirement: bad for administrators – good or bad for vo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Findings Continued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about authentication of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ying perspectives on bes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variation in general administration of UOCAVA voting found based on selection criteria for states – differences wash out as population siz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found based on relationship of state to local juris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innovative ideas on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mission to conduct pilot projects des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More Findings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echanisms to share or promote innovative procedures among lo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communication between LEOs and VAOs in many juris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PS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rs uninformed about electronic transmission possibilities (few reque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Os cautious about encouraging wide-spread use due to ballot remaking issu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Conclusion and Recommendations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Os hindered by obstacles (legal, resources, technology infrastructure, awareness of voters, knowledge of agenc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nee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ll increase in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ws that allow more dis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chanism to share prac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and authentication assura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grade/standardize local syste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3:30:06Z</dcterms:created>
  <dc:creator>Anita</dc:creator>
  <dc:description/>
  <dc:language>en-US</dc:language>
  <cp:lastModifiedBy>Statewide Database</cp:lastModifiedBy>
  <dcterms:modified xsi:type="dcterms:W3CDTF">2007-09-23T22:24:14Z</dcterms:modified>
  <cp:revision>16</cp:revision>
  <dc:subject/>
  <dc:title>Facilitating UOCAVA Voting</dc:title>
</cp:coreProperties>
</file>