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0D4C-AB8C-4768-90AB-FBC7D617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A659-AC92-4BD9-AFBE-EDAC5FB8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4B1D-7B6F-43C8-BADB-A6B6B152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BE1-3148-4A96-91A3-04DE544D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23F7-97E8-451E-B798-C1132845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9CE9-7C94-422C-A017-4546F4C6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77A9-57A7-497A-8A5C-A67A22FB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2475-F898-4C9C-8EBE-E2951552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BB16-5107-4D0B-8981-592AC6CF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C736-272A-47BF-BF57-6B18AA03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289B-5C2E-4B3E-8DDB-C0A1CE37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6566-4C49-43D2-A9F6-DAA69096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15AC-0107-414D-B3A7-D201032B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D9A5-2CF5-400B-A82D-014DCF1C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6713-8857-4547-840B-DAE19947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A37D-6A04-4421-89CE-1388092C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029B-26F7-4530-8433-0C1DE977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7AE-53B9-4392-A4DD-1A7DE6B1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ACF-7CD6-42F8-8D58-3FE2002C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D608-0196-4D9E-9EB6-7A860384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DD5-3C5B-4058-8909-5BC7CBC5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9916-4D17-4768-97D8-65221DD7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CEB-82A2-447E-A3F6-B62F3069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CF19-1D46-495C-9773-3E8CE3B6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50AA-6D9B-4FB6-98B8-2AAD7FC4CC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6F46-504C-4274-AF9B-B1A731FCE7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Times New Roman"/>
              </a:rPr>
              <a:t>SURVEY OF UOCAVA  VOTERS</a:t>
            </a:r>
            <a:endParaRPr b="0" lang="en-US" sz="4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ilitating UOCAVA Vot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22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California, Washington Ce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onsored by the U.S. Election Assistance 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Table 4: Ease of Method, by Electronic Transmission of Voted Ballot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1905120"/>
          <a:ext cx="8229600" cy="3405240"/>
        </p:xfrm>
        <a:graphic>
          <a:graphicData uri="http://schemas.openxmlformats.org/drawingml/2006/table">
            <a:tbl>
              <a:tblPr/>
              <a:tblGrid>
                <a:gridCol w="2590920"/>
                <a:gridCol w="914400"/>
                <a:gridCol w="1066680"/>
                <a:gridCol w="836640"/>
                <a:gridCol w="1068480"/>
                <a:gridCol w="890640"/>
                <a:gridCol w="8618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would you rate the ease-of-use of this way of sending in your voted ballo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ot delivery metho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what 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what Diffic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685800" y="56386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e person reported internet fax of a ballot and reported it as “somewhat difficult.” One person reported internet fax of a ballot &amp; original ballot by mail and reported it as “eas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Table 3: Perception of Security, by Blank Ballot Delivery Method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1752480"/>
          <a:ext cx="8229600" cy="4530600"/>
        </p:xfrm>
        <a:graphic>
          <a:graphicData uri="http://schemas.openxmlformats.org/drawingml/2006/table">
            <a:tbl>
              <a:tblPr/>
              <a:tblGrid>
                <a:gridCol w="2590920"/>
                <a:gridCol w="914400"/>
                <a:gridCol w="914400"/>
                <a:gridCol w="988920"/>
                <a:gridCol w="1017720"/>
                <a:gridCol w="941400"/>
                <a:gridCol w="861840"/>
              </a:tblGrid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 the way you received the ballot secur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ot delivery metho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Sec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ec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Insec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ier, certified, express 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tary Postal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loaded via DOD 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Table 8: Security Concerns, by Method of Transmission of Voted Ballot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8382240" cy="5005440"/>
        </p:xfrm>
        <a:graphic>
          <a:graphicData uri="http://schemas.openxmlformats.org/drawingml/2006/table">
            <a:tbl>
              <a:tblPr/>
              <a:tblGrid>
                <a:gridCol w="2590920"/>
                <a:gridCol w="838080"/>
                <a:gridCol w="914400"/>
                <a:gridCol w="838440"/>
                <a:gridCol w="838080"/>
                <a:gridCol w="838080"/>
                <a:gridCol w="685800"/>
                <a:gridCol w="838440"/>
              </a:tblGrid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id you feel about security of your vote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ot delivery method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Conce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tle Conce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once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Know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f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fax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ier, certified, express 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tary Postal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assy, consulate mail p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pped off or voted at local election office in the 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Table 7: Future Method Use, by Method of Transmission of Voted Ballot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4400" y="1752480"/>
          <a:ext cx="7772400" cy="4294440"/>
        </p:xfrm>
        <a:graphic>
          <a:graphicData uri="http://schemas.openxmlformats.org/drawingml/2006/table">
            <a:tbl>
              <a:tblPr/>
              <a:tblGrid>
                <a:gridCol w="3505320"/>
                <a:gridCol w="1143000"/>
                <a:gridCol w="990360"/>
                <a:gridCol w="213372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ld you use the sending method again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ot delivery method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%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22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 &amp; original ballo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22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62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 &amp; original ballo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44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fa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1 perso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fax &amp; original ballo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2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ma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2,196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ier, certified, express ma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280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tary Postal Servi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203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assy, consulate mail pou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140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pped off or voted in pers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80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Table 5: Satisfaction, by Electronic Transmission of Voted Ballot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1905120"/>
          <a:ext cx="8305920" cy="3411360"/>
        </p:xfrm>
        <a:graphic>
          <a:graphicData uri="http://schemas.openxmlformats.org/drawingml/2006/table">
            <a:tbl>
              <a:tblPr/>
              <a:tblGrid>
                <a:gridCol w="2438280"/>
                <a:gridCol w="914400"/>
                <a:gridCol w="1067040"/>
                <a:gridCol w="761760"/>
                <a:gridCol w="1143000"/>
                <a:gridCol w="1143000"/>
                <a:gridCol w="8384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would you rate the ease-of-use of this way of sending in your voted ballo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ot delivery metho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what Satis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what Dissatis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satis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685800" y="5638680"/>
            <a:ext cx="82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e person reported sending ballot by internet fax and indicated they were “somewhat satisfied” with that method.  One person reported sending ballot by internet fax &amp; original by mail and indicated they were “satisfied” with that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Table 6: Waiving Privacy, by Electronic Transmission of Voted Ballot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1752480"/>
          <a:ext cx="8153280" cy="3935520"/>
        </p:xfrm>
        <a:graphic>
          <a:graphicData uri="http://schemas.openxmlformats.org/drawingml/2006/table">
            <a:tbl>
              <a:tblPr/>
              <a:tblGrid>
                <a:gridCol w="3657600"/>
                <a:gridCol w="1066680"/>
                <a:gridCol w="990720"/>
                <a:gridCol w="1371600"/>
                <a:gridCol w="10666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e you asked to give up the right to a private vot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ot delivery metho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rem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 &amp; original ball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 &amp; original ball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685800" y="58672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e person reported sending in their ballot by internet fax and indicated they were asked to give up the right to a private v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Table 7: Future Method Use, by Method of Transmission of Voted Ballot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14400" y="1752480"/>
          <a:ext cx="7772400" cy="4294440"/>
        </p:xfrm>
        <a:graphic>
          <a:graphicData uri="http://schemas.openxmlformats.org/drawingml/2006/table">
            <a:tbl>
              <a:tblPr/>
              <a:tblGrid>
                <a:gridCol w="3505320"/>
                <a:gridCol w="1143000"/>
                <a:gridCol w="990360"/>
                <a:gridCol w="213372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ld you use the sending method again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ot delivery method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%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22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 &amp; original ballo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22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62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 &amp; original ballo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44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fa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1 perso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fax &amp; original ballo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2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ma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2,196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ier, certified, express ma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280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tary Postal Servi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203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assy, consulate mail pou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140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pped off or voted in pers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80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Table 8: Security Concerns, by Method of Transmission of Voted Ballot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1600200"/>
          <a:ext cx="8382240" cy="5005440"/>
        </p:xfrm>
        <a:graphic>
          <a:graphicData uri="http://schemas.openxmlformats.org/drawingml/2006/table">
            <a:tbl>
              <a:tblPr/>
              <a:tblGrid>
                <a:gridCol w="2590920"/>
                <a:gridCol w="838080"/>
                <a:gridCol w="914400"/>
                <a:gridCol w="838440"/>
                <a:gridCol w="838080"/>
                <a:gridCol w="838080"/>
                <a:gridCol w="685800"/>
                <a:gridCol w="838440"/>
              </a:tblGrid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id you feel about security of your vote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ot delivery method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Conce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tle Conce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once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Know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f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fax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ier, certified, express 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tary Postal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assy, consulate mail p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pped off or voted at local election office in the 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Table 9: Whether Confirmed Arrival, by Method of Transmission of Voted Ballot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14400" y="1752480"/>
          <a:ext cx="7772400" cy="4900680"/>
        </p:xfrm>
        <a:graphic>
          <a:graphicData uri="http://schemas.openxmlformats.org/drawingml/2006/table">
            <a:tbl>
              <a:tblPr/>
              <a:tblGrid>
                <a:gridCol w="3352680"/>
                <a:gridCol w="1676520"/>
                <a:gridCol w="1676520"/>
                <a:gridCol w="106668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you confirm your ballot arrived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ot delivery method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y state or county online too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y contacting my election offi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f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fax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ier, certified, express 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tary Postal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assy, consulate mail p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pped off or voted at local election office in per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PURPOSE OF SURVEY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OBTAIN PERCEPTIONS OF OVERSEAS VOTERS ABOUT THE PROCESS OF VOTING AB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THEIR EVALUATIONS OF DIFFERENT BALLOT TRANSMISS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SSESS OTHER POTENTIAL VOTING CONCERNS SUCH AS PRIV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Table 10: Comfort with Electronic Voting, by Concerns with Electronic Transmission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5800" y="1600200"/>
          <a:ext cx="8381880" cy="4984920"/>
        </p:xfrm>
        <a:graphic>
          <a:graphicData uri="http://schemas.openxmlformats.org/drawingml/2006/table">
            <a:tbl>
              <a:tblPr/>
              <a:tblGrid>
                <a:gridCol w="3809880"/>
                <a:gridCol w="1447920"/>
                <a:gridCol w="1523880"/>
                <a:gridCol w="1600200"/>
              </a:tblGrid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fortable voting via electronic transmission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s with electronic transmission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oncerns about voting onli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oncerns about voting by fa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oncerns about voting by ema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privacy concer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security concer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trust intern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want personal info on intern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ed election off. will see vo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aid people could see how I vot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467480" cy="48006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1: Predicted Probability of Voting, by Voter Type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2: Predicted Probability of Voting, by State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696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3: Voting with Electronic Transmission, by Age Group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2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4: Voting with Electronic Transmission, by State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20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5: Experience of Receiving Blank Ballot, by Voter Type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467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6: Ease of Completing Ballot, by Voter Type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20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7: Ease of Completing Ballot, by State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696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8: Ease of Sending Voted Ballot, by Sending Method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772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9: Ease of Sending Voted Ballot, by Voter Type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SURVEY SAMPL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55 QUESTION SURVEY INSTRUMENT ADMINISTERED BETWEEN DEC 2006  AND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UR STATE SAMPLE (MT, SC, FL,ILL) WITH 1603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PPLEMENTAL POOL OF 4166 OBTAINED WITH ASSISTANCE OF VOTING ASSISTANCE OFFI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 RATE EMAILED/MAILED WAS 13% AND FOR ONLINE WAS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10: Satisfaction with Voting Process, by Voter Type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543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11: Satisfaction with Voting Process, by State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543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12: Perceived Security of Method for Receiving Blank Ballot, by Voter Type  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96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13: Perceived Security of Vote, by Voter Type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20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Table 1: Age Breakdown of Sample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981080" y="1828800"/>
          <a:ext cx="5181840" cy="41324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-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-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-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-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ns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SAMPLE CHARACTERSITIC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SAMPLE INCLUDE ELIGIBLE VOTERS FROM 50 STATE AND 132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UR STATE SAMPLE IS MORE MILITARY (47%), YOUNGER, AND LIVED OVERSEAS FOR SHORTE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LITTLE OF NO DIFFERENCE IN AGE, EDUCATION OR GENDER BETWEEN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S ARE MOSTLY SIMILAR IN BOTH S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33"/>
                </a:solidFill>
                <a:latin typeface="Times New Roman"/>
              </a:rPr>
              <a:t>RELATIVELY HIGH LEVEL OF SATISFACTION 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% of all respondents and 87% of the four state sample were satisfied or somewhat satisfied with the process of obtaining and casting a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8% tried to vote but did not complete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9% found the ballot easy or somewhat easy to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2% said that they would use the same method of sending in their ballots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But Some Important Variation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 for other factors, non-military voters were less likely to vote, and were more likely to express dissatisfaction with both receiving and sending a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r, more experienced and better educated voters had more su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izens in non-OECD nations had more difficulty with voting and the transmission of voting mate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Table 2: 2006 Voting Experience, by Voter Type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1752480"/>
          <a:ext cx="8153280" cy="4496040"/>
        </p:xfrm>
        <a:graphic>
          <a:graphicData uri="http://schemas.openxmlformats.org/drawingml/2006/table">
            <a:tbl>
              <a:tblPr/>
              <a:tblGrid>
                <a:gridCol w="3657600"/>
                <a:gridCol w="1066680"/>
                <a:gridCol w="990720"/>
                <a:gridCol w="1371600"/>
                <a:gridCol w="1066680"/>
              </a:tblGrid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you vote in 2006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dent Typ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but tr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use/dependent of service m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formed service m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.S. citizen abroad permanent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.S. citizen abroad temporar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33"/>
                </a:solidFill>
                <a:latin typeface="Times New Roman"/>
              </a:rPr>
              <a:t>USE OF ELECTRONIC TRANSMISSION STILL LOW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% in the four state sample downloaded the blank reg form from a website or filled out the form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% faxed or emailed the reg/ballot request form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% received their ballots from Fax or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% sent their ballots back by FAX or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9% were using electronic transmission for the first time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33"/>
                </a:solidFill>
                <a:latin typeface="Times New Roman"/>
              </a:rPr>
              <a:t>SATISFACTION WITH ELECTRONIC TRANSMISSION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s are small but the satisfaction levels are high with electronic transmission of materials (i.e. 77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95% said that they would use the same form of electronic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7% found the electronic transmission method to be either easy or somewhat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% were asked to give up their right to private vote but only 1/3 of those had concerns about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03:30:06Z</dcterms:created>
  <dc:creator>Anita</dc:creator>
  <dc:description/>
  <dc:language>en-US</dc:language>
  <cp:lastModifiedBy>KarenLynn-Dyson</cp:lastModifiedBy>
  <dcterms:modified xsi:type="dcterms:W3CDTF">2007-09-20T21:20:12Z</dcterms:modified>
  <cp:revision>15</cp:revision>
  <dc:subject/>
  <dc:title>Facilitating UOCAVA Voting</dc:title>
</cp:coreProperties>
</file>