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1DD-5EAC-45CF-B1C1-FC703A30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B72-6678-47B0-915C-F88BEC81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B64-048D-46CC-96B8-07164564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3A4-63CB-4039-954E-F11284DE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808B-1B24-489C-991D-34306C63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4E14-E647-4319-98C9-62737502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2049-681C-4379-B76E-89750C23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3B70-066B-4467-83E0-BF63D63D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89AF-CAA7-4247-A206-17617EEB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856A-9217-46CC-91A2-181ED862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5AFC-8503-4102-9B8B-89BF1A3C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E04-40AF-4581-AE2C-A6A63A2C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74EB-6A21-4709-A7AC-28F4EDDD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DC44-71A2-4089-A034-087528BF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E769-EB65-4CA4-AFAE-F8424E34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929C-13B3-49B1-815F-E893AF42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84C2-E928-4F76-8322-416FD314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CD1-E36A-45D5-A34A-D6F1A12A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B82-5B5E-43A6-A534-C59950D0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80D-77F1-46EF-8EBF-DD6A562C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950-6D90-48A3-9E22-49CB1B05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6C4-EF12-4B3A-AFBC-26436981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068-9EE1-4F14-89F3-DDA311D4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119-BD61-42E4-B542-F128DA20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3685-0DBC-4ECC-82CA-21A951EDF0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EA1B-6D4D-4D58-B0E7-273509C597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Times New Roman"/>
              </a:rPr>
              <a:t>SURVEY OF UOCAVA  VOTERS</a:t>
            </a: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ing UOCAVA Vot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2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California, Washington C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onsored by the U.S. Election Assistance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4: Ease of Method, by Electronic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905120"/>
          <a:ext cx="8229600" cy="3405240"/>
        </p:xfrm>
        <a:graphic>
          <a:graphicData uri="http://schemas.openxmlformats.org/drawingml/2006/table">
            <a:tbl>
              <a:tblPr/>
              <a:tblGrid>
                <a:gridCol w="2590920"/>
                <a:gridCol w="914400"/>
                <a:gridCol w="1066680"/>
                <a:gridCol w="836640"/>
                <a:gridCol w="1068480"/>
                <a:gridCol w="890640"/>
                <a:gridCol w="861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would you rate the ease-of-use of this way of sending in your voted ballo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what 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what Diffic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685800" y="56386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e person reported internet fax of a ballot and reported it as “somewhat difficult.” One person reported internet fax of a ballot &amp; original ballot by mail and reported it as “eas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3: Perception of Security, by Blank Ballot Delivery Method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752480"/>
          <a:ext cx="8229600" cy="4530600"/>
        </p:xfrm>
        <a:graphic>
          <a:graphicData uri="http://schemas.openxmlformats.org/drawingml/2006/table">
            <a:tbl>
              <a:tblPr/>
              <a:tblGrid>
                <a:gridCol w="2590920"/>
                <a:gridCol w="914400"/>
                <a:gridCol w="914400"/>
                <a:gridCol w="988920"/>
                <a:gridCol w="1017720"/>
                <a:gridCol w="941400"/>
                <a:gridCol w="861840"/>
              </a:tblGrid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 the way you received the ballot secur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Sec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c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Insec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ier, certified, express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 Postal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loaded via DOD 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8: Security Concerns, by Method of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8382240" cy="5005440"/>
        </p:xfrm>
        <a:graphic>
          <a:graphicData uri="http://schemas.openxmlformats.org/drawingml/2006/table">
            <a:tbl>
              <a:tblPr/>
              <a:tblGrid>
                <a:gridCol w="2590920"/>
                <a:gridCol w="838080"/>
                <a:gridCol w="914400"/>
                <a:gridCol w="838440"/>
                <a:gridCol w="838080"/>
                <a:gridCol w="838080"/>
                <a:gridCol w="685800"/>
                <a:gridCol w="838440"/>
              </a:tblGrid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id you feel about security of your vote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 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Know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ier, certified, express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 Postal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ssy, consulate mail p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ped off or voted at local election office in the 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7: Future Method Use, by Method of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1752480"/>
          <a:ext cx="7772400" cy="4294440"/>
        </p:xfrm>
        <a:graphic>
          <a:graphicData uri="http://schemas.openxmlformats.org/drawingml/2006/table">
            <a:tbl>
              <a:tblPr/>
              <a:tblGrid>
                <a:gridCol w="3505320"/>
                <a:gridCol w="1143000"/>
                <a:gridCol w="990360"/>
                <a:gridCol w="21337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you use the sending method again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6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44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1 perso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 &amp; original ball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m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,196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ier, certified, express m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80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 Postal Servi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03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ssy, consulate mail pou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140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ped off or voted in pers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80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5: Satisfaction, by Electronic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905120"/>
          <a:ext cx="8305920" cy="3411360"/>
        </p:xfrm>
        <a:graphic>
          <a:graphicData uri="http://schemas.openxmlformats.org/drawingml/2006/table">
            <a:tbl>
              <a:tblPr/>
              <a:tblGrid>
                <a:gridCol w="2438280"/>
                <a:gridCol w="914400"/>
                <a:gridCol w="1067040"/>
                <a:gridCol w="761760"/>
                <a:gridCol w="1143000"/>
                <a:gridCol w="1143000"/>
                <a:gridCol w="8384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would you rate the ease-of-use of this way of sending in your voted ballo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what Satis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what Dissatis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satis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685800" y="5638680"/>
            <a:ext cx="82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e person reported sending ballot by internet fax and indicated they were “somewhat satisfied” with that method.  One person reported sending ballot by internet fax &amp; original by mail and indicated they were “satisfied” with that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6: Waiving Privacy, by Electronic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752480"/>
          <a:ext cx="8153280" cy="3935520"/>
        </p:xfrm>
        <a:graphic>
          <a:graphicData uri="http://schemas.openxmlformats.org/drawingml/2006/table">
            <a:tbl>
              <a:tblPr/>
              <a:tblGrid>
                <a:gridCol w="3657600"/>
                <a:gridCol w="1066680"/>
                <a:gridCol w="990720"/>
                <a:gridCol w="1371600"/>
                <a:gridCol w="1066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e you asked to give up the right to a private vo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rem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85800" y="58672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e person reported sending in their ballot by internet fax and indicated they were asked to give up the right to a private v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7: Future Method Use, by Method of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14400" y="1752480"/>
          <a:ext cx="7772400" cy="4294440"/>
        </p:xfrm>
        <a:graphic>
          <a:graphicData uri="http://schemas.openxmlformats.org/drawingml/2006/table">
            <a:tbl>
              <a:tblPr/>
              <a:tblGrid>
                <a:gridCol w="3505320"/>
                <a:gridCol w="1143000"/>
                <a:gridCol w="990360"/>
                <a:gridCol w="21337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you use the sending method again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6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44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1 perso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 &amp; original ball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m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,196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ier, certified, express m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80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 Postal Servi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203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ssy, consulate mail pou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140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ped off or voted in pers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 (80 peopl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8: Security Concerns, by Method of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1600200"/>
          <a:ext cx="8382240" cy="5005440"/>
        </p:xfrm>
        <a:graphic>
          <a:graphicData uri="http://schemas.openxmlformats.org/drawingml/2006/table">
            <a:tbl>
              <a:tblPr/>
              <a:tblGrid>
                <a:gridCol w="2590920"/>
                <a:gridCol w="838080"/>
                <a:gridCol w="914400"/>
                <a:gridCol w="838440"/>
                <a:gridCol w="838080"/>
                <a:gridCol w="838080"/>
                <a:gridCol w="685800"/>
                <a:gridCol w="838440"/>
              </a:tblGrid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id you feel about security of your vote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 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once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Know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ier, certified, express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 Postal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ssy, consulate mail p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ped off or voted at local election office in the 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9: Whether Confirmed Arrival, by Method of Transmission of Voted Ballot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14400" y="1752480"/>
          <a:ext cx="7772400" cy="4900680"/>
        </p:xfrm>
        <a:graphic>
          <a:graphicData uri="http://schemas.openxmlformats.org/drawingml/2006/table">
            <a:tbl>
              <a:tblPr/>
              <a:tblGrid>
                <a:gridCol w="3352680"/>
                <a:gridCol w="1676520"/>
                <a:gridCol w="1676520"/>
                <a:gridCol w="106668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you confirm your ballot arrived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t delivery method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y state or county online too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y contacting my election off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fax &amp; original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ier, certified, express 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 Postal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ssy, consulate mail p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ped off or voted at local election office in per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PURPOSE OF SURVEY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BTAIN PERCEPTIONS OF OVERSEAS VOTERS ABOUT THE PROCESS OF VOTING AB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THEIR EVALUATIONS OF DIFFERENT BALLOT TRANSMISS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SESS OTHER POTENTIAL VOTING CONCERNS SUCH AS PRIV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10: Comfort with Electronic Voting, by Concerns with Electronic Transmission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600200"/>
          <a:ext cx="8381880" cy="4984920"/>
        </p:xfrm>
        <a:graphic>
          <a:graphicData uri="http://schemas.openxmlformats.org/drawingml/2006/table">
            <a:tbl>
              <a:tblPr/>
              <a:tblGrid>
                <a:gridCol w="3809880"/>
                <a:gridCol w="1447920"/>
                <a:gridCol w="1523880"/>
                <a:gridCol w="160020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fortable voting via electronic transmission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s with electronic transmission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oncerns about voting onli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oncerns about voting by fa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oncerns about voting by em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privacy concer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security concer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trust intern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want personal info on intern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ed election off. will see vo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aid people could see how I vot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467480" cy="4800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1: Predicted Probability of Voting, by Voter Typ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2: Predicted Probability of Voting, by Stat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696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3: Voting with Electronic Transmission, by Age Group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4: Voting with Electronic Transmission, by Stat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5: Experience of Receiving Blank Ballot, by Voter Typ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467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6: Ease of Completing Ballot, by Voter Typ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7: Ease of Completing Ballot, by Stat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696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8: Ease of Sending Voted Ballot, by Sending Method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9: Ease of Sending Voted Ballot, by Voter Typ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SURVEY SAMPL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55 QUESTION SURVEY INSTRUMENT ADMINISTERED BETWEEN DEC 2006  AND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UR STATE SAMPLE (MT, SC, FL,ILL) WITH 1603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PPLEMENTAL POOL OF 4166 OBTAINED WITH ASSISTANCE OF VOTING ASSISTANCE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 RATE EMAILED/MAILED WAS 13% AND FOR ONLINE WAS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10: Satisfaction with Voting Process, by Voter Typ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11: Satisfaction with Voting Process, by Stat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12: Perceived Security of Method for Receiving Blank Ballot, by Voter Type  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Figure 13: Perceived Security of Vote, by Voter Type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1: Age Breakdown of Sample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81080" y="1828800"/>
          <a:ext cx="5181840" cy="41324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-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-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-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-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ns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SAMPLE CHARACTERSITIC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SAMPLE INCLUDE ELIGIBLE VOTERS FROM 50 STATE AND 13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UR STATE SAMPLE IS MORE MILITARY (47%), YOUNGER, AND LIVED OVERSEAS FOR SHORTE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LITTLE OF NO DIFFERENCE IN AGE, EDUCATION OR GENDER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 ARE MOSTLY SIMILAR IN BOTH S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RELATIVELY HIGH LEVEL OF SATISFACTION 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% of all respondents and 87% of the four state sample were satisfied or somewhat satisfied with the process of obtaining and casting a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8% tried to vote but did not complete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% found the ballot easy or somewhat easy to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2% said that they would use the same method of sending in their ballots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But Some Important Variation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for other factors, non-military voters were less likely to vote, and were more likely to express dissatisfaction with both receiving and sending a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r, more experienced and better educated voters had more su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s in non-OECD nations had more difficulty with voting and the transmission of voting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Times New Roman"/>
              </a:rPr>
              <a:t>Table 2: 2006 Voting Experience, by Voter Type</a:t>
            </a:r>
            <a:endParaRPr b="0" lang="en-US" sz="30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752480"/>
          <a:ext cx="8153280" cy="4496040"/>
        </p:xfrm>
        <a:graphic>
          <a:graphicData uri="http://schemas.openxmlformats.org/drawingml/2006/table">
            <a:tbl>
              <a:tblPr/>
              <a:tblGrid>
                <a:gridCol w="3657600"/>
                <a:gridCol w="1066680"/>
                <a:gridCol w="990720"/>
                <a:gridCol w="1371600"/>
                <a:gridCol w="106668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you vote in 2006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dent Typ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but tr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use/dependent of service m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ed service m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citizen abroad permanent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citizen abroad temporar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USE OF ELECTRONIC TRANSMISSION STILL LOW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% in the four state sample downloaded the blank reg form from a website or filled out the form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% faxed or emailed the reg/ballot request form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% received their ballots from Fax o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% sent their ballots back by FAX o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% were using electronic transmission for the first time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SATISFACTION WITH ELECTRONIC TRANSMISSION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s are small but the satisfaction levels are high with electronic transmission of materials (i.e. 77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95% said that they would use the same form of electronic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7% found the electronic transmission method to be either easy or somewhat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% were asked to give up their right to private vote but only 1/3 of those had concerns about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3:30:06Z</dcterms:created>
  <dc:creator>Anita</dc:creator>
  <dc:description/>
  <dc:language>en-US</dc:language>
  <cp:lastModifiedBy>KarenLynn-Dyson</cp:lastModifiedBy>
  <dcterms:modified xsi:type="dcterms:W3CDTF">2007-09-20T21:20:12Z</dcterms:modified>
  <cp:revision>15</cp:revision>
  <dc:subject/>
  <dc:title>Facilitating UOCAVA Voting</dc:title>
</cp:coreProperties>
</file>