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3E5F8-592A-4EFB-8305-BC6FD6514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B5162-44BF-4DE5-9ACC-DF377C240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97DDB-F505-445C-853D-5B8C5D39D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365-9895-4227-9F0E-664BFBF6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510080"/>
            <a:ext cx="82296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CA71-B2BF-4FB5-A042-7FE73A9A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51008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51008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A04-E981-43A1-AC02-35B3DEB4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26496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742840"/>
            <a:ext cx="26496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742840"/>
            <a:ext cx="26496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510080"/>
            <a:ext cx="26496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510080"/>
            <a:ext cx="26496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510080"/>
            <a:ext cx="26496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226-23AF-42A8-81EA-9B5D2603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08F-3303-4961-B6B2-2ECB9AB7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F35-D59A-4AE9-BDB8-90AA9CE8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3844-1DF7-4EE1-85EB-4BC5B14F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F18-A2B9-4C10-AB74-D705FB21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A6F-03F2-461A-95F2-3B40BA9C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51008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5AF3-3D48-43E4-A51C-F48BF85A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51008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F2B-3B27-483D-A1D9-A3403621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510080"/>
            <a:ext cx="82296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130-868D-423D-912B-8A5E2F49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69A6-564C-457C-B3C3-36680E90D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Banner complete in stage-HAVA Funds mngnt"/>
          <p:cNvPicPr/>
          <p:nvPr/>
        </p:nvPicPr>
        <p:blipFill>
          <a:blip r:embed="rId3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ac.gov/payments_and_grants/guidance_policies_and_eac_advisories.aspx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havafunding@eac.gov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aramond"/>
              </a:rPr>
              <a:t>2011 Requirements Payments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Garamond"/>
              </a:rPr>
              <a:t>Instructions</a:t>
            </a:r>
            <a:endParaRPr b="0" lang="en-US" sz="42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50" name="Picture 4" descr="long bar-in prog"/>
          <p:cNvPicPr/>
          <p:nvPr/>
        </p:nvPicPr>
        <p:blipFill>
          <a:blip r:embed="rId1"/>
          <a:stretch/>
        </p:blipFill>
        <p:spPr>
          <a:xfrm>
            <a:off x="457200" y="1752480"/>
            <a:ext cx="30492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838080" y="54864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What is Title III Certification?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itle III includes: Section 301-303—voting system Standards, provisional voting, statewide voter registration/voter registration by m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You do not need to be Title III compliant to receive your Requirements Pay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For additional information, see  </a:t>
            </a:r>
            <a:r>
              <a:rPr b="0" lang="en-US" sz="30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Grants Primer for Election Offic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hat is the Minimum Requirements Payment?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48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he total amount any State can spend on improving the administration of elections for Federal office without first being Title III compliant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8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83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2011--$13,021,8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83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2010--$13,021,8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83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2009--$12,671,8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83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2008--$12,17180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MOVE Act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Requirements Payments can be used for MOVE implemen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itle III compliant?  Any amount can be us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Not Title III Compliant?  Up to the Minimum Requirements Payment can be us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Questions???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mail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havafunding@eac.gov</a:t>
            </a:r>
            <a:r>
              <a:rPr b="0" lang="en-US" sz="40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Webinar Agenda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tate Plan Upd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Instructions for Requesting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itle III Cert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Minimum Pay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MOVE 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Question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State Plan Updates</a:t>
            </a:r>
            <a:br>
              <a:rPr sz="3600"/>
            </a:br>
            <a:br>
              <a:rPr sz="12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or to requesting Requirements Payments, review your State Plan carefully to see if it needs to be updated</a:t>
            </a:r>
            <a:endParaRPr b="0" lang="en-US" sz="2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27960" indent="-32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hen was your plan last updated, has there been a leadership change since the plan was last publish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7960" indent="-32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o you plan to do the activities described in your plan?  Litmus test:  Are you planning anything in 2011 or beyond that might surprise your stakehold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7960" indent="-32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view Section 254 of HAVA to make sure your plan is in compliance with HA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7960" indent="-32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OVE Act requires that State plans be updated. MOE may also require an update to your pl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7960" indent="-32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s your State now Title III compli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nstructions for Requesting Funds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bmit 253(b) Certification Letter to EAC (If necessary, provide requested back up document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253(b) certification letter must include the following langu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“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   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(State)    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hereby certifies that it is in compliance with the requirements referred to in section 253(b) of the Help America Vote Act of 2002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nd certify that it ha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(For full assurance purposes, please include these items in your certification let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led and implemented a plan for uniform, nondiscriminatory administrative complaint procedures required by HAVA Section 40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ropriated matching funds equal to five percent of the total amount (State share plus Federal share) of your HAVA requirements payment budg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mplied with the six laws listed in Section 906 of H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led a State plan that complies with the requirements listed in Sections 253, 254, 255, and 256 of HA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ovided EAC with appropriate certifications under Section 251(b)(2) regarding use of requirements payments for activities other than meeting the requirements of HAVA Title I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nstructions for Requesting Funds Cont’d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.  Receive a Notice of Grant Award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nstructions for Requesting Funds Cont’d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3.  Return Bank Account Information (SF-3881) and signed EAC Certification and Assurances to E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1523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nstructions for Requesting Funds Cont’d</a:t>
            </a:r>
            <a:endParaRPr b="0" lang="en-US" sz="36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507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4.  Receive funds in your account (within 3 - 5 business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21:33:25Z</dcterms:created>
  <dc:creator>henrybotchway</dc:creator>
  <dc:description/>
  <dc:language>en-US</dc:language>
  <cp:lastModifiedBy>Ashley Williams</cp:lastModifiedBy>
  <dcterms:modified xsi:type="dcterms:W3CDTF">2017-03-16T14:51:59Z</dcterms:modified>
  <cp:revision>86</cp:revision>
  <dc:subject/>
  <dc:title>Slide 1</dc:title>
</cp:coreProperties>
</file>