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FAB50-B28E-411E-91BF-83AFD727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40E7-D664-45FA-8921-2E35AB44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18303-98BE-489E-9DFB-7BFF4ABF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C8C-B5BE-4865-BA51-E6CFDD1B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55B-797D-45FD-8CB6-2C15D8EA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B2F-1488-4497-A054-E23A921D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FE7-8CEE-4844-82A2-872E2772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3BF-9FEB-49C6-B588-40F05FE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CFA-08ED-442A-93A9-E33FE12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5CB-CA2C-4A83-A221-CF10595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683-9FC6-4C6D-86AE-E3F3D08C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7AA-16D8-493D-901A-425D4A5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04D-56DF-45A7-98BC-E223495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B91-9C6A-49D8-AFC9-F5EF154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57E-DFB1-48AE-A900-932919E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54A-8E7F-4F30-95B3-68CF7993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Banner complete in stage-HAVA Funds mngnt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ac.gov/payments_and_grants/guidance_policies_and_eac_advisories.asp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havafunding@eac.go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2011 Requirements Payments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Instructions</a:t>
            </a:r>
            <a:endParaRPr b="0" lang="en-US" sz="42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50" name="Picture 4" descr="long bar-in prog"/>
          <p:cNvPicPr/>
          <p:nvPr/>
        </p:nvPicPr>
        <p:blipFill>
          <a:blip r:embed="rId1"/>
          <a:stretch/>
        </p:blipFill>
        <p:spPr>
          <a:xfrm>
            <a:off x="457200" y="1752480"/>
            <a:ext cx="30492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83808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What is Title III Certification?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itle III includes: Section 301-303—voting system Standards, provisional voting, statewide voter registration/voter registration by 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You do not need to be Title III compliant to receive your Requirements Pay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additional information, see 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Grants Primer for Election Offic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at is the Minimum Requirements Payment?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8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total amount any State can spend on improving the administration of elections for Federal office without first being Title III compliant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11--$13,02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10--$13,02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09--$12,67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08--$12,1718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VE Act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quirements Payments can be used for MOVE imple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itle III compliant?  Any amount can b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ot Title III Compliant?  Up to the Minimum Requirements Payment can b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Questions???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mail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avafunding@eac.gov</a:t>
            </a: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Webinar Agenda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tate Plan 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structions for Requesting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itle III Cer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inimum Pa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V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Question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tate Plan Updates</a:t>
            </a:r>
            <a:br>
              <a:rPr sz="36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or to requesting Requirements Payments, review your State Plan carefully to see if it needs to be updated</a:t>
            </a: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hen was your plan last updated, has there been a leadership change since the plan was last publish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 you plan to do the activities described in your plan?  Litmus test:  Are you planning anything in 2011 or beyond that might surprise your stakehold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view Section 254 of HAVA to make sure your plan is in compliance with H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VE Act requires that State plans be updated. MOE may also require an update to your p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your State now Title III compli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bmit 253(b) Certification Letter to EAC (If necessary, provide requested back up docum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53(b) certification letter must include the following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   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(State)    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reby certifies that it is in compliance with the requirements referred to in section 253(b) of the Help America Vote Act of 2002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d certify that it h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For full assurance purposes, please include these items in your certification l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led and implemented a plan for uniform, nondiscriminatory administrative complaint procedures required by HAVA Section 4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ropriated matching funds equal to five percent of the total amount (State share plus Federal share) of your HAVA requirements payment budg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plied with the six laws listed in Section 906 of H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led a State plan that complies with the requirements listed in Sections 253, 254, 255, and 256 of H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vided EAC with appropriate certifications under Section 251(b)(2) regarding use of requirements payments for activities other than meeting the requirements of HAVA Title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.  Receive a Notice of Grant Award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3.  Return Bank Account Information (SF-3881) and signed EAC Certification and Assurances to E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 Receive funds in your account (within 3 - 5 business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1:33:25Z</dcterms:created>
  <dc:creator>henrybotchway</dc:creator>
  <dc:description/>
  <dc:language>en-US</dc:language>
  <cp:lastModifiedBy>Ashley Williams</cp:lastModifiedBy>
  <dcterms:modified xsi:type="dcterms:W3CDTF">2017-03-16T14:51:59Z</dcterms:modified>
  <cp:revision>86</cp:revision>
  <dc:subject/>
  <dc:title>Slide 1</dc:title>
</cp:coreProperties>
</file>