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7AF-C20B-462F-B431-2B4D3146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977-AADD-4766-9DDD-5780A9D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637-56CF-4722-A5A1-684A40CB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CCD-E1DE-4CBB-B001-B85E7001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2F37-A091-4720-89A4-BC7DBFCE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3364-322A-49A4-9D3D-9C71CA7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8677-5BB0-44C0-B299-3EF71C89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2544-A38E-4B51-BA31-4A8562CA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F720-83AF-4154-9719-26D0C2E9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0010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6693-401F-487E-95D0-C576F312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1CE9-1EBB-479B-A509-B776D3F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78B-F163-4BED-B098-6BC08492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2030-383F-416B-BA52-FB71AA7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B51A-192E-4A79-90B6-6DB4F109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B67C-2DF0-4519-8BE1-3AFA5C18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D13C-DF6F-488F-B6CB-FEA4AB7A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5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3960" y="160020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5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3960" y="398844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310E-26C5-4E49-A9A1-A2550341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0F2-AD6E-4E8A-A933-5B242CFA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10B-8987-488E-88C1-B595B6F9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0CA-F0A7-4C1A-9321-7167E2D8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0010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B72-2D0A-4CA2-BA80-BD54EDC8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390-4FB3-454F-870B-E5EE54A9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98844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8A4-6777-4070-A843-28126C9A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60020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EC1-400C-46E8-A1DC-F655173B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11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32448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324480"/>
            <a:ext cx="10666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811F-9E1F-44FA-ADEC-6FD0EB47467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2639880"/>
            <a:ext cx="601956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324480"/>
            <a:ext cx="16765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32448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324480"/>
            <a:ext cx="10666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EB98-A8FC-4074-9BD2-552F680AACF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lectiondataservices.com/" TargetMode="External"/><Relationship Id="rId3" Type="http://schemas.openxmlformats.org/officeDocument/2006/relationships/hyperlink" Target="mailto:KBrace@aol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590560" y="386676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y Kimball Brace, Preside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lection Data Services, Inc.   September 24,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590560" y="2639880"/>
            <a:ext cx="601956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2006 UOCAVA Survey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A Summary of Findings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ear survey suffers from big proble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While appears in shambles,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We have more data now than we had in 2004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till question of whether we’re better now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s there a catalyst to fix it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urther Information Available at: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ion Assistance Commiss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225 New York Av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ite 110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ashington, DC 2000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202-) 566-310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ww.eac.gov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aren Lynn-Dys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earch Direct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port Contractor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lection Data Services, Inc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400 Eye Street, NW, Suite 40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ashington, DC 2000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202) 789-200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ff"/>
                </a:solidFill>
                <a:uFillTx/>
                <a:latin typeface="Century Gothic"/>
                <a:hlinkClick r:id="rId2"/>
              </a:rPr>
              <a:t>www.electiondataservices.c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imball Brac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ff"/>
                </a:solidFill>
                <a:uFillTx/>
                <a:latin typeface="Century Gothic"/>
                <a:hlinkClick r:id="rId3"/>
              </a:rPr>
              <a:t>KBrace@aol.c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asic Election Administration Fact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 is important to rememb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1,778 of nations’ jurisdictions have fewer than    1,000 registered voters in them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nly 320 jurisdictions have more than 100,000 registered vot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nly 18 jurisdictions have more than 1 million voters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ver 26% of election jurisdictions still use paper ballots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OCAVA Vot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006 General Electio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924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imated Eligibl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Source: GAO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quested Ballo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st or Counted Ballo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4419720"/>
            <a:ext cx="168120" cy="954000"/>
          </a:xfrm>
          <a:prstGeom prst="rect">
            <a:avLst/>
          </a:prstGeom>
          <a:solidFill>
            <a:srgbClr val="ff0000"/>
          </a:solidFill>
          <a:ln w="7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429000"/>
            <a:ext cx="504720" cy="96372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438280"/>
            <a:ext cx="3056040" cy="9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724280"/>
            <a:ext cx="135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33,179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733920"/>
            <a:ext cx="12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992,03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73840" y="2833560"/>
            <a:ext cx="10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6,000,00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All Eligible UOCAVA Voters: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nly 16.5% sought to participate in 2006 Elec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urnout was only 5.5 percent of eligibl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06880" y="1882800"/>
            <a:ext cx="38163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07160" y="3094200"/>
            <a:ext cx="2558880" cy="25603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15" y="96"/>
                </a:moveTo>
                <a:cubicBezTo>
                  <a:pt x="5" y="119"/>
                  <a:pt x="0" y="143"/>
                  <a:pt x="0" y="167"/>
                </a:cubicBezTo>
                <a:cubicBezTo>
                  <a:pt x="0" y="260"/>
                  <a:pt x="75" y="336"/>
                  <a:pt x="168" y="336"/>
                </a:cubicBezTo>
                <a:cubicBezTo>
                  <a:pt x="260" y="336"/>
                  <a:pt x="336" y="260"/>
                  <a:pt x="336" y="168"/>
                </a:cubicBezTo>
                <a:cubicBezTo>
                  <a:pt x="336" y="75"/>
                  <a:pt x="260" y="0"/>
                  <a:pt x="168" y="0"/>
                </a:cubicBezTo>
                <a:lnTo>
                  <a:pt x="168" y="168"/>
                </a:lnTo>
                <a:lnTo>
                  <a:pt x="15" y="96"/>
                </a:lnTo>
                <a:close/>
              </a:path>
            </a:pathLst>
          </a:custGeom>
          <a:solidFill>
            <a:srgbClr val="ffff00"/>
          </a:solidFill>
          <a:ln w="79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560" y="470232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Eligible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83800" y="4854600"/>
            <a:ext cx="45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6 Million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532480" y="2629080"/>
            <a:ext cx="1165320" cy="1234800"/>
            <a:chOff x="5532480" y="2629080"/>
            <a:chExt cx="1165320" cy="1234800"/>
          </a:xfrm>
        </p:grpSpPr>
        <p:sp>
          <p:nvSpPr>
            <p:cNvPr id="102" name=""/>
            <p:cNvSpPr/>
            <p:nvPr/>
          </p:nvSpPr>
          <p:spPr>
            <a:xfrm>
              <a:off x="5532480" y="2629080"/>
              <a:ext cx="1165320" cy="1234800"/>
            </a:xfrm>
            <a:custGeom>
              <a:avLst/>
              <a:gdLst/>
              <a:ahLst/>
              <a:rect l="l" t="t" r="r" b="b"/>
              <a:pathLst>
                <a:path w="153" h="162">
                  <a:moveTo>
                    <a:pt x="106" y="0"/>
                  </a:moveTo>
                  <a:cubicBezTo>
                    <a:pt x="60" y="13"/>
                    <a:pt x="21" y="46"/>
                    <a:pt x="0" y="90"/>
                  </a:cubicBezTo>
                  <a:lnTo>
                    <a:pt x="153" y="16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58280" y="29718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ought to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27680" y="312408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articipate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64480" y="327672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6.5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628320" y="2438280"/>
            <a:ext cx="467280" cy="1357200"/>
            <a:chOff x="6628320" y="2438280"/>
            <a:chExt cx="467280" cy="1357200"/>
          </a:xfrm>
        </p:grpSpPr>
        <p:sp>
          <p:nvSpPr>
            <p:cNvPr id="107" name=""/>
            <p:cNvSpPr/>
            <p:nvPr/>
          </p:nvSpPr>
          <p:spPr>
            <a:xfrm>
              <a:off x="6629400" y="2438280"/>
              <a:ext cx="257040" cy="135720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0"/>
                  </a:moveTo>
                  <a:cubicBezTo>
                    <a:pt x="31" y="0"/>
                    <a:pt x="15" y="2"/>
                    <a:pt x="0" y="6"/>
                  </a:cubicBezTo>
                  <a:lnTo>
                    <a:pt x="47" y="16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8280" y="2511360"/>
              <a:ext cx="42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ast or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15440" y="283356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5.5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8320" y="2666880"/>
              <a:ext cx="46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ounted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Requested UOCAVA Ballot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nly one-third were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st or count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10160" y="1604880"/>
          <a:ext cx="3924360" cy="456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0160" y="1604880"/>
                    <a:ext cx="392436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Makes Up UOCAVA Voter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600200"/>
          <a:ext cx="80010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00200"/>
                    <a:ext cx="8001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ach State is Differen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16256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ercent of Requested Ballot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at Were Cast or Counted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0010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00200"/>
                    <a:ext cx="8001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All UOCAVA Ballots Rejected: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turned Undeliverabl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Untimely Receip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 Voter Sign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Unmatched Sign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 Date with Sign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cking Postmar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 Date on Voter Sign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4702320" y="1981080"/>
            <a:ext cx="3527280" cy="3581640"/>
          </a:xfrm>
          <a:prstGeom prst="rect">
            <a:avLst/>
          </a:prstGeom>
          <a:noFill/>
          <a:ln w="7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03880" y="2133720"/>
            <a:ext cx="966600" cy="1371600"/>
            <a:chOff x="5303880" y="2133720"/>
            <a:chExt cx="966600" cy="1371600"/>
          </a:xfrm>
        </p:grpSpPr>
        <p:sp>
          <p:nvSpPr>
            <p:cNvPr id="127" name=""/>
            <p:cNvSpPr/>
            <p:nvPr/>
          </p:nvSpPr>
          <p:spPr>
            <a:xfrm>
              <a:off x="5303880" y="2133720"/>
              <a:ext cx="966600" cy="1371600"/>
            </a:xfrm>
            <a:custGeom>
              <a:avLst/>
              <a:gdLst/>
              <a:ahLst/>
              <a:rect l="l" t="t" r="r" b="b"/>
              <a:pathLst>
                <a:path w="127" h="180">
                  <a:moveTo>
                    <a:pt x="94" y="0"/>
                  </a:moveTo>
                  <a:cubicBezTo>
                    <a:pt x="59" y="7"/>
                    <a:pt x="26" y="23"/>
                    <a:pt x="0" y="48"/>
                  </a:cubicBezTo>
                  <a:lnTo>
                    <a:pt x="127" y="18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99ff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11240" y="238428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Untimely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4160" y="2530440"/>
              <a:ext cx="42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Receipt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52720" y="267480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9.4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716360" y="2727360"/>
            <a:ext cx="1393920" cy="1357200"/>
            <a:chOff x="4716360" y="2727360"/>
            <a:chExt cx="1393920" cy="1357200"/>
          </a:xfrm>
        </p:grpSpPr>
        <p:sp>
          <p:nvSpPr>
            <p:cNvPr id="132" name=""/>
            <p:cNvSpPr/>
            <p:nvPr/>
          </p:nvSpPr>
          <p:spPr>
            <a:xfrm>
              <a:off x="4716360" y="2727360"/>
              <a:ext cx="1393920" cy="1357200"/>
            </a:xfrm>
            <a:custGeom>
              <a:avLst/>
              <a:gdLst/>
              <a:ahLst/>
              <a:rect l="l" t="t" r="r" b="b"/>
              <a:pathLst>
                <a:path w="183" h="178">
                  <a:moveTo>
                    <a:pt x="56" y="0"/>
                  </a:moveTo>
                  <a:cubicBezTo>
                    <a:pt x="21" y="35"/>
                    <a:pt x="1" y="82"/>
                    <a:pt x="1" y="131"/>
                  </a:cubicBezTo>
                  <a:cubicBezTo>
                    <a:pt x="0" y="147"/>
                    <a:pt x="3" y="163"/>
                    <a:pt x="7" y="178"/>
                  </a:cubicBezTo>
                  <a:lnTo>
                    <a:pt x="183" y="13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cc0000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3040" y="3459240"/>
              <a:ext cx="33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Other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70600" y="3603600"/>
              <a:ext cx="33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17.0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72280" y="2644920"/>
            <a:ext cx="2727000" cy="2773080"/>
            <a:chOff x="5372280" y="2644920"/>
            <a:chExt cx="2727000" cy="2773080"/>
          </a:xfrm>
        </p:grpSpPr>
        <p:sp>
          <p:nvSpPr>
            <p:cNvPr id="136" name=""/>
            <p:cNvSpPr/>
            <p:nvPr/>
          </p:nvSpPr>
          <p:spPr>
            <a:xfrm>
              <a:off x="5372280" y="2644920"/>
              <a:ext cx="2727000" cy="2773080"/>
            </a:xfrm>
            <a:custGeom>
              <a:avLst/>
              <a:gdLst/>
              <a:ahLst/>
              <a:rect l="l" t="t" r="r" b="b"/>
              <a:pathLst>
                <a:path w="358" h="364">
                  <a:moveTo>
                    <a:pt x="0" y="228"/>
                  </a:moveTo>
                  <a:cubicBezTo>
                    <a:pt x="21" y="308"/>
                    <a:pt x="93" y="363"/>
                    <a:pt x="176" y="363"/>
                  </a:cubicBezTo>
                  <a:cubicBezTo>
                    <a:pt x="276" y="364"/>
                    <a:pt x="358" y="282"/>
                    <a:pt x="358" y="182"/>
                  </a:cubicBezTo>
                  <a:cubicBezTo>
                    <a:pt x="358" y="81"/>
                    <a:pt x="276" y="0"/>
                    <a:pt x="176" y="0"/>
                  </a:cubicBezTo>
                  <a:lnTo>
                    <a:pt x="176" y="18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99cc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73040" y="4191120"/>
              <a:ext cx="50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Century Gothic"/>
                </a:rPr>
                <a:t>Returned </a:t>
              </a:r>
              <a:endParaRPr b="0" lang="en-US" sz="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45600" y="4335480"/>
              <a:ext cx="71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Century Gothic"/>
                </a:rPr>
                <a:t>Undeliverable</a:t>
              </a:r>
              <a:endParaRPr b="0" lang="en-US" sz="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03720" y="44658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72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086800" y="1600200"/>
            <a:ext cx="3364200" cy="1790640"/>
            <a:chOff x="5086800" y="1600200"/>
            <a:chExt cx="3364200" cy="1790640"/>
          </a:xfrm>
        </p:grpSpPr>
        <p:sp>
          <p:nvSpPr>
            <p:cNvPr id="141" name=""/>
            <p:cNvSpPr/>
            <p:nvPr/>
          </p:nvSpPr>
          <p:spPr>
            <a:xfrm>
              <a:off x="6411960" y="2003400"/>
              <a:ext cx="46080" cy="1387440"/>
            </a:xfrm>
            <a:custGeom>
              <a:avLst/>
              <a:gdLst/>
              <a:ahLst/>
              <a:rect l="l" t="t" r="r" b="b"/>
              <a:pathLst>
                <a:path w="6" h="182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lnTo>
                    <a:pt x="6" y="18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473880" y="2003400"/>
              <a:ext cx="1440" cy="1387440"/>
            </a:xfrm>
            <a:prstGeom prst="line">
              <a:avLst/>
            </a:prstGeom>
            <a:ln w="79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13480" y="1844640"/>
              <a:ext cx="645840" cy="16668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0" y="0"/>
                  </a:moveTo>
                  <a:lnTo>
                    <a:pt x="11" y="0"/>
                  </a:lnTo>
                  <a:lnTo>
                    <a:pt x="85" y="22"/>
                  </a:lnTo>
                </a:path>
              </a:pathLst>
            </a:custGeom>
            <a:noFill/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3880" y="1836720"/>
              <a:ext cx="1271520" cy="166680"/>
            </a:xfrm>
            <a:custGeom>
              <a:avLst/>
              <a:gdLst/>
              <a:ahLst/>
              <a:rect l="l" t="t" r="r" b="b"/>
              <a:pathLst>
                <a:path w="167" h="22">
                  <a:moveTo>
                    <a:pt x="167" y="0"/>
                  </a:moveTo>
                  <a:lnTo>
                    <a:pt x="156" y="0"/>
                  </a:lnTo>
                  <a:lnTo>
                    <a:pt x="0" y="22"/>
                  </a:lnTo>
                </a:path>
              </a:pathLst>
            </a:custGeom>
            <a:noFill/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10920" y="1630080"/>
              <a:ext cx="538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No Voter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6800" y="1774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Signature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38360" y="192060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1.8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4880" y="1616040"/>
              <a:ext cx="48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No date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52160" y="176040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w/Sign.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2080" y="19047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0.3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2040" y="1600200"/>
              <a:ext cx="47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Lacking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62720" y="1744560"/>
              <a:ext cx="55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Postmark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09960" y="188892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0.3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79600" y="1622160"/>
              <a:ext cx="67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No Date on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88960" y="1768320"/>
              <a:ext cx="62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Voter Sign.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73640" y="191268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0.0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76120" y="2171520"/>
              <a:ext cx="69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Unmatched 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73040" y="2315880"/>
              <a:ext cx="27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Sign.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3120" y="246060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Century Gothic"/>
                </a:rPr>
                <a:t>0.4%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38720" y="1981080"/>
              <a:ext cx="250920" cy="1387440"/>
            </a:xfrm>
            <a:custGeom>
              <a:avLst/>
              <a:gdLst/>
              <a:ahLst/>
              <a:rect l="l" t="t" r="r" b="b"/>
              <a:pathLst>
                <a:path w="33" h="182">
                  <a:moveTo>
                    <a:pt x="20" y="0"/>
                  </a:moveTo>
                  <a:cubicBezTo>
                    <a:pt x="13" y="0"/>
                    <a:pt x="7" y="1"/>
                    <a:pt x="0" y="2"/>
                  </a:cubicBezTo>
                  <a:lnTo>
                    <a:pt x="33" y="18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45:30Z</dcterms:created>
  <dc:creator>Kimball Brace</dc:creator>
  <dc:description/>
  <cp:keywords/>
  <dc:language>en-US</dc:language>
  <cp:lastModifiedBy>Kimball Brace</cp:lastModifiedBy>
  <cp:lastPrinted>2001-06-01T13:12:48Z</cp:lastPrinted>
  <dcterms:modified xsi:type="dcterms:W3CDTF">2007-09-24T10:40:32Z</dcterms:modified>
  <cp:revision>4</cp:revision>
  <dc:subject/>
  <dc:title>2004 Election Day Survey: A Summary of Find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41033</vt:lpwstr>
  </property>
</Properties>
</file>