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E4D0-92DB-41D3-8436-04CF84C6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98844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0ED6-45FF-4CAE-9E7B-736D3E84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98844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2840" y="398844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3367-7766-40D5-87AE-66F193AB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560" y="160020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3960" y="160020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98844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560" y="398844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3960" y="398844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DADA-8217-45FA-A1E5-14DF8F8E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3D07-5F43-43DB-B7E0-29C4F6ED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9C52-4482-4517-B707-4FA031D6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2468-6675-41C0-A50F-D2860F49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7047-8069-4DB3-BE09-635423CE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50B7-869C-471F-9297-546E6337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0010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AC2B-2DAD-4D4F-9944-1FACAF52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398844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B6A7-C3A4-4DFE-A28C-4AB6C9F1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456E-37B6-45DD-9803-87502C83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2840" y="398844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59A8-4628-4E9E-86F3-676C83A8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398844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1929-60C9-4A30-842A-20C5DA43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398844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152D-8A79-4CF7-B04B-6E8CEBFF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398844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2840" y="398844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123D-22D9-4F60-A5F3-690764CE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560" y="160020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3960" y="160020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398844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560" y="398844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3960" y="398844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8A52-221B-4A52-AC89-F591A978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BB9F-C5AB-4BCF-A584-2474D54C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46BF-93C6-4526-885F-6D0F0635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E138-951C-45F9-ADC5-1C720375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0010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986B-711A-4729-9B1B-3C456046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98844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DB22-3651-49F4-8097-DE4699AE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2840" y="398844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9499-6F09-40A9-ABD0-C7B00A6C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98844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E65-81CE-4599-AB8C-76F6A486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11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1199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1199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324480"/>
            <a:ext cx="16765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32448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324480"/>
            <a:ext cx="10666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67D6-3BAE-4FBB-A152-5FDA1BC0322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0560" y="2639880"/>
            <a:ext cx="601956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6324480"/>
            <a:ext cx="16765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057040" y="632448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324480"/>
            <a:ext cx="10666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CA1A-D959-41AA-9014-732DAC7826BF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lectiondataservices.com/" TargetMode="External"/><Relationship Id="rId3" Type="http://schemas.openxmlformats.org/officeDocument/2006/relationships/hyperlink" Target="mailto:KBrace@aol.co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590560" y="386676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By Kimball Brace, Presiden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lection Data Services, Inc.   September 24, 2007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590560" y="2639880"/>
            <a:ext cx="601956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2006 UOCAVA Survey</a:t>
            </a:r>
            <a:r>
              <a:rPr b="0" lang="en-US" sz="3400" spc="-1" strike="noStrike">
                <a:solidFill>
                  <a:srgbClr val="000000"/>
                </a:solidFill>
                <a:latin typeface="Century Gothic"/>
              </a:rPr>
              <a:t>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entury Gothic"/>
              </a:rPr>
              <a:t>A Summary of Findings</a:t>
            </a:r>
            <a:endParaRPr b="1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ear survey suffers from big problem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While appears in shambles,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We have more data now than we had in 2004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Still question of whether we’re better now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Is there a catalyst to fix it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urther Information Available at: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lection Assistance Commiss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1225 New York Av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uite 1100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ashington, DC 20005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(202-) 566-3100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ww.eac.gov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Karen Lynn-Dys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search Directo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eport Contractor: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lection Data Services, Inc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1400 Eye Street, NW, Suite 400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ashington, DC 20005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(202) 789-2004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ff"/>
                </a:solidFill>
                <a:uFillTx/>
                <a:latin typeface="Century Gothic"/>
                <a:hlinkClick r:id="rId2"/>
              </a:rPr>
              <a:t>www.electiondataservices.co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Kimball Brac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ff"/>
                </a:solidFill>
                <a:uFillTx/>
                <a:latin typeface="Century Gothic"/>
                <a:hlinkClick r:id="rId3"/>
              </a:rPr>
              <a:t>KBrace@aol.co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asic Election Administration Fact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 is important to remembe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1,778 of nations’ jurisdictions have fewer than    1,000 registered voters in them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Only 320 jurisdictions have more than 100,000 registered voter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Only 18 jurisdictions have more than 1 million voters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Over 26% of election jurisdictions still use paper ballots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UOCAVA Voter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2006 General Election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924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stimated Eligibl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entury Gothic"/>
              </a:rPr>
              <a:t>Source: GAO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quested Ballot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ast or Counted Ballot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4419720"/>
            <a:ext cx="168120" cy="954000"/>
          </a:xfrm>
          <a:prstGeom prst="rect">
            <a:avLst/>
          </a:prstGeom>
          <a:solidFill>
            <a:srgbClr val="ff0000"/>
          </a:solidFill>
          <a:ln w="7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3429000"/>
            <a:ext cx="504720" cy="963720"/>
          </a:xfrm>
          <a:prstGeom prst="rect">
            <a:avLst/>
          </a:prstGeom>
          <a:solidFill>
            <a:srgbClr val="0000ff"/>
          </a:solidFill>
          <a:ln w="7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2438280"/>
            <a:ext cx="3056040" cy="95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4724280"/>
            <a:ext cx="135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333,179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3733920"/>
            <a:ext cx="120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992,03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73840" y="2833560"/>
            <a:ext cx="10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6,000,00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f All Eligible UOCAVA Voters: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2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Only 16.5% sought to participate in 2006 Electio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urnout was only 5.5 percent of eligibl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808440" cy="4464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006880" y="1882800"/>
            <a:ext cx="381636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07160" y="3094200"/>
            <a:ext cx="2558880" cy="256032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15" y="96"/>
                </a:moveTo>
                <a:cubicBezTo>
                  <a:pt x="5" y="119"/>
                  <a:pt x="0" y="143"/>
                  <a:pt x="0" y="167"/>
                </a:cubicBezTo>
                <a:cubicBezTo>
                  <a:pt x="0" y="260"/>
                  <a:pt x="75" y="336"/>
                  <a:pt x="168" y="336"/>
                </a:cubicBezTo>
                <a:cubicBezTo>
                  <a:pt x="260" y="336"/>
                  <a:pt x="336" y="260"/>
                  <a:pt x="336" y="168"/>
                </a:cubicBezTo>
                <a:cubicBezTo>
                  <a:pt x="336" y="75"/>
                  <a:pt x="260" y="0"/>
                  <a:pt x="168" y="0"/>
                </a:cubicBezTo>
                <a:lnTo>
                  <a:pt x="168" y="168"/>
                </a:lnTo>
                <a:lnTo>
                  <a:pt x="15" y="96"/>
                </a:lnTo>
                <a:close/>
              </a:path>
            </a:pathLst>
          </a:custGeom>
          <a:solidFill>
            <a:srgbClr val="ffff00"/>
          </a:solidFill>
          <a:ln w="79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560" y="4702320"/>
            <a:ext cx="40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Eligible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183800" y="4854600"/>
            <a:ext cx="45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6 Million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532480" y="2629080"/>
            <a:ext cx="1165320" cy="1234800"/>
            <a:chOff x="5532480" y="2629080"/>
            <a:chExt cx="1165320" cy="1234800"/>
          </a:xfrm>
        </p:grpSpPr>
        <p:sp>
          <p:nvSpPr>
            <p:cNvPr id="102" name=""/>
            <p:cNvSpPr/>
            <p:nvPr/>
          </p:nvSpPr>
          <p:spPr>
            <a:xfrm>
              <a:off x="5532480" y="2629080"/>
              <a:ext cx="1165320" cy="1234800"/>
            </a:xfrm>
            <a:custGeom>
              <a:avLst/>
              <a:gdLst/>
              <a:ahLst/>
              <a:rect l="l" t="t" r="r" b="b"/>
              <a:pathLst>
                <a:path w="153" h="162">
                  <a:moveTo>
                    <a:pt x="106" y="0"/>
                  </a:moveTo>
                  <a:cubicBezTo>
                    <a:pt x="60" y="13"/>
                    <a:pt x="21" y="46"/>
                    <a:pt x="0" y="90"/>
                  </a:cubicBezTo>
                  <a:lnTo>
                    <a:pt x="153" y="162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58280" y="29718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Sought to 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27680" y="3124080"/>
              <a:ext cx="58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Participate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64480" y="327672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16.5%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628320" y="2438280"/>
            <a:ext cx="467280" cy="1357200"/>
            <a:chOff x="6628320" y="2438280"/>
            <a:chExt cx="467280" cy="1357200"/>
          </a:xfrm>
        </p:grpSpPr>
        <p:sp>
          <p:nvSpPr>
            <p:cNvPr id="107" name=""/>
            <p:cNvSpPr/>
            <p:nvPr/>
          </p:nvSpPr>
          <p:spPr>
            <a:xfrm>
              <a:off x="6629400" y="2438280"/>
              <a:ext cx="257040" cy="1357200"/>
            </a:xfrm>
            <a:custGeom>
              <a:avLst/>
              <a:gdLst/>
              <a:ahLst/>
              <a:rect l="l" t="t" r="r" b="b"/>
              <a:pathLst>
                <a:path w="47" h="168">
                  <a:moveTo>
                    <a:pt x="46" y="0"/>
                  </a:moveTo>
                  <a:cubicBezTo>
                    <a:pt x="31" y="0"/>
                    <a:pt x="15" y="2"/>
                    <a:pt x="0" y="6"/>
                  </a:cubicBezTo>
                  <a:lnTo>
                    <a:pt x="47" y="16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68280" y="2511360"/>
              <a:ext cx="42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Cast or 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15440" y="283356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5.5%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8320" y="2666880"/>
              <a:ext cx="465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Counted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f Requested UOCAVA Ballot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2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Only one-third were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ast or counted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610160" y="1604880"/>
          <a:ext cx="3924360" cy="456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10160" y="1604880"/>
                    <a:ext cx="3924360" cy="45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What Makes Up UOCAVA Voter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3520" y="1600200"/>
          <a:ext cx="80010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600200"/>
                    <a:ext cx="8001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ach State is Differen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7162560" cy="55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ercent of Requested Ballot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at Were Cast or Counted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1600200"/>
          <a:ext cx="80010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600200"/>
                    <a:ext cx="8001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f All UOCAVA Ballots Rejected: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2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turned Undeliverabl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Untimely Receip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s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o Voter Signatur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Unmatched Signatur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o Date with Signatur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acking Postmark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o Date on Voter Signatur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"/>
          <p:cNvSpPr/>
          <p:nvPr/>
        </p:nvSpPr>
        <p:spPr>
          <a:xfrm>
            <a:off x="4702320" y="1981080"/>
            <a:ext cx="3527280" cy="3581640"/>
          </a:xfrm>
          <a:prstGeom prst="rect">
            <a:avLst/>
          </a:prstGeom>
          <a:noFill/>
          <a:ln w="7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303880" y="2133720"/>
            <a:ext cx="966600" cy="1371600"/>
            <a:chOff x="5303880" y="2133720"/>
            <a:chExt cx="966600" cy="1371600"/>
          </a:xfrm>
        </p:grpSpPr>
        <p:sp>
          <p:nvSpPr>
            <p:cNvPr id="127" name=""/>
            <p:cNvSpPr/>
            <p:nvPr/>
          </p:nvSpPr>
          <p:spPr>
            <a:xfrm>
              <a:off x="5303880" y="2133720"/>
              <a:ext cx="966600" cy="1371600"/>
            </a:xfrm>
            <a:custGeom>
              <a:avLst/>
              <a:gdLst/>
              <a:ahLst/>
              <a:rect l="l" t="t" r="r" b="b"/>
              <a:pathLst>
                <a:path w="127" h="180">
                  <a:moveTo>
                    <a:pt x="94" y="0"/>
                  </a:moveTo>
                  <a:cubicBezTo>
                    <a:pt x="59" y="7"/>
                    <a:pt x="26" y="23"/>
                    <a:pt x="0" y="48"/>
                  </a:cubicBezTo>
                  <a:lnTo>
                    <a:pt x="127" y="18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99ff"/>
            </a:solidFill>
            <a:ln w="792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11240" y="2384280"/>
              <a:ext cx="558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Untimely 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64160" y="2530440"/>
              <a:ext cx="42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Receipt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52720" y="267480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9.4%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716360" y="2727360"/>
            <a:ext cx="1393920" cy="1357200"/>
            <a:chOff x="4716360" y="2727360"/>
            <a:chExt cx="1393920" cy="1357200"/>
          </a:xfrm>
        </p:grpSpPr>
        <p:sp>
          <p:nvSpPr>
            <p:cNvPr id="132" name=""/>
            <p:cNvSpPr/>
            <p:nvPr/>
          </p:nvSpPr>
          <p:spPr>
            <a:xfrm>
              <a:off x="4716360" y="2727360"/>
              <a:ext cx="1393920" cy="1357200"/>
            </a:xfrm>
            <a:custGeom>
              <a:avLst/>
              <a:gdLst/>
              <a:ahLst/>
              <a:rect l="l" t="t" r="r" b="b"/>
              <a:pathLst>
                <a:path w="183" h="178">
                  <a:moveTo>
                    <a:pt x="56" y="0"/>
                  </a:moveTo>
                  <a:cubicBezTo>
                    <a:pt x="21" y="35"/>
                    <a:pt x="1" y="82"/>
                    <a:pt x="1" y="131"/>
                  </a:cubicBezTo>
                  <a:cubicBezTo>
                    <a:pt x="0" y="147"/>
                    <a:pt x="3" y="163"/>
                    <a:pt x="7" y="178"/>
                  </a:cubicBezTo>
                  <a:lnTo>
                    <a:pt x="183" y="13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cc0000"/>
            </a:solidFill>
            <a:ln w="792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63040" y="3459240"/>
              <a:ext cx="335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Other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70600" y="3603600"/>
              <a:ext cx="33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17.0%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372280" y="2644920"/>
            <a:ext cx="2727000" cy="2773080"/>
            <a:chOff x="5372280" y="2644920"/>
            <a:chExt cx="2727000" cy="2773080"/>
          </a:xfrm>
        </p:grpSpPr>
        <p:sp>
          <p:nvSpPr>
            <p:cNvPr id="136" name=""/>
            <p:cNvSpPr/>
            <p:nvPr/>
          </p:nvSpPr>
          <p:spPr>
            <a:xfrm>
              <a:off x="5372280" y="2644920"/>
              <a:ext cx="2727000" cy="2773080"/>
            </a:xfrm>
            <a:custGeom>
              <a:avLst/>
              <a:gdLst/>
              <a:ahLst/>
              <a:rect l="l" t="t" r="r" b="b"/>
              <a:pathLst>
                <a:path w="358" h="364">
                  <a:moveTo>
                    <a:pt x="0" y="228"/>
                  </a:moveTo>
                  <a:cubicBezTo>
                    <a:pt x="21" y="308"/>
                    <a:pt x="93" y="363"/>
                    <a:pt x="176" y="363"/>
                  </a:cubicBezTo>
                  <a:cubicBezTo>
                    <a:pt x="276" y="364"/>
                    <a:pt x="358" y="282"/>
                    <a:pt x="358" y="182"/>
                  </a:cubicBezTo>
                  <a:cubicBezTo>
                    <a:pt x="358" y="81"/>
                    <a:pt x="276" y="0"/>
                    <a:pt x="176" y="0"/>
                  </a:cubicBezTo>
                  <a:lnTo>
                    <a:pt x="176" y="182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0099cc"/>
            </a:solidFill>
            <a:ln w="792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73040" y="4191120"/>
              <a:ext cx="50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Century Gothic"/>
                </a:rPr>
                <a:t>Returned </a:t>
              </a:r>
              <a:endParaRPr b="0" lang="en-US" sz="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45600" y="4335480"/>
              <a:ext cx="712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Century Gothic"/>
                </a:rPr>
                <a:t>Undeliverable</a:t>
              </a:r>
              <a:endParaRPr b="0" lang="en-US" sz="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03720" y="446580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72%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086800" y="1600200"/>
            <a:ext cx="3364200" cy="1790640"/>
            <a:chOff x="5086800" y="1600200"/>
            <a:chExt cx="3364200" cy="1790640"/>
          </a:xfrm>
        </p:grpSpPr>
        <p:sp>
          <p:nvSpPr>
            <p:cNvPr id="141" name=""/>
            <p:cNvSpPr/>
            <p:nvPr/>
          </p:nvSpPr>
          <p:spPr>
            <a:xfrm>
              <a:off x="6411960" y="2003400"/>
              <a:ext cx="46080" cy="1387440"/>
            </a:xfrm>
            <a:custGeom>
              <a:avLst/>
              <a:gdLst/>
              <a:ahLst/>
              <a:rect l="l" t="t" r="r" b="b"/>
              <a:pathLst>
                <a:path w="6" h="182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lnTo>
                    <a:pt x="6" y="18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473880" y="2003400"/>
              <a:ext cx="1440" cy="1387440"/>
            </a:xfrm>
            <a:prstGeom prst="line">
              <a:avLst/>
            </a:prstGeom>
            <a:ln w="79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13480" y="1844640"/>
              <a:ext cx="645840" cy="166680"/>
            </a:xfrm>
            <a:custGeom>
              <a:avLst/>
              <a:gdLst/>
              <a:ahLst/>
              <a:rect l="l" t="t" r="r" b="b"/>
              <a:pathLst>
                <a:path w="85" h="22">
                  <a:moveTo>
                    <a:pt x="0" y="0"/>
                  </a:moveTo>
                  <a:lnTo>
                    <a:pt x="11" y="0"/>
                  </a:lnTo>
                  <a:lnTo>
                    <a:pt x="85" y="22"/>
                  </a:lnTo>
                </a:path>
              </a:pathLst>
            </a:custGeom>
            <a:noFill/>
            <a:ln w="792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73880" y="1836720"/>
              <a:ext cx="1271520" cy="166680"/>
            </a:xfrm>
            <a:custGeom>
              <a:avLst/>
              <a:gdLst/>
              <a:ahLst/>
              <a:rect l="l" t="t" r="r" b="b"/>
              <a:pathLst>
                <a:path w="167" h="22">
                  <a:moveTo>
                    <a:pt x="167" y="0"/>
                  </a:moveTo>
                  <a:lnTo>
                    <a:pt x="156" y="0"/>
                  </a:lnTo>
                  <a:lnTo>
                    <a:pt x="0" y="22"/>
                  </a:lnTo>
                </a:path>
              </a:pathLst>
            </a:custGeom>
            <a:noFill/>
            <a:ln w="792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10920" y="1630080"/>
              <a:ext cx="538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No Voter 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86800" y="177480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Signature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38360" y="192060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1.8%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4880" y="1616040"/>
              <a:ext cx="482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No date 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52160" y="1760400"/>
              <a:ext cx="42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w/Sign.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2080" y="19047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0.3%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2040" y="1600200"/>
              <a:ext cx="476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Lacking 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62720" y="1744560"/>
              <a:ext cx="554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Postmark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09960" y="188892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0.3%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79600" y="1622160"/>
              <a:ext cx="67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No Date on 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88960" y="1768320"/>
              <a:ext cx="62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Voter Sign.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973640" y="191268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0.0%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76120" y="2171520"/>
              <a:ext cx="69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Unmatched 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73040" y="2315880"/>
              <a:ext cx="27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Sign.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83120" y="246060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0.4%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38720" y="1981080"/>
              <a:ext cx="250920" cy="1387440"/>
            </a:xfrm>
            <a:custGeom>
              <a:avLst/>
              <a:gdLst/>
              <a:ahLst/>
              <a:rect l="l" t="t" r="r" b="b"/>
              <a:pathLst>
                <a:path w="33" h="182">
                  <a:moveTo>
                    <a:pt x="20" y="0"/>
                  </a:moveTo>
                  <a:cubicBezTo>
                    <a:pt x="13" y="0"/>
                    <a:pt x="7" y="1"/>
                    <a:pt x="0" y="2"/>
                  </a:cubicBezTo>
                  <a:lnTo>
                    <a:pt x="33" y="18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66ccff"/>
            </a:solidFill>
            <a:ln w="792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6:45:30Z</dcterms:created>
  <dc:creator>Kimball Brace</dc:creator>
  <dc:description/>
  <cp:keywords/>
  <dc:language>en-US</dc:language>
  <cp:lastModifiedBy>Kimball Brace</cp:lastModifiedBy>
  <cp:lastPrinted>2001-06-01T13:12:48Z</cp:lastPrinted>
  <dcterms:modified xsi:type="dcterms:W3CDTF">2007-09-24T10:40:32Z</dcterms:modified>
  <cp:revision>4</cp:revision>
  <dc:subject/>
  <dc:title>2004 Election Day Survey: A Summary of Finding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41033</vt:lpwstr>
  </property>
</Properties>
</file>